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63A-B8C1-4375-8712-C073B7A8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AA0-431B-4A1B-99A4-89042084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1A7-6791-49EA-88B8-F3E87312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136-B1E7-4369-973F-36E3F282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1DB-3D72-4445-9E7B-E83562D9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BD7-D829-46A9-BF9A-00E73FB5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C27-55C3-41D2-AEE4-28E005ED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3BD-B916-4893-8266-108A8603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70C-D0A6-4DBA-9324-C03E689D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B7A-52DB-4F9E-B766-86AB1163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427-0450-4A93-96C9-AF7B408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E46-52EC-4EB8-9699-D06D34F9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4EB7-5FF3-4D5D-921A-7B282506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 Norms of Collaborativ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Garm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ce Wel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aptiv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 Norms of Collaborativ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Ideas on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attention to self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ming positive int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uing a balance between advocacy and 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2:15:46Z</dcterms:created>
  <dc:creator>USER</dc:creator>
  <dc:description/>
  <dc:language>en-US</dc:language>
  <cp:lastModifiedBy>tracy.quattrone</cp:lastModifiedBy>
  <dcterms:modified xsi:type="dcterms:W3CDTF">2008-02-08T16:18:17Z</dcterms:modified>
  <cp:revision>3</cp:revision>
  <dc:subject/>
  <dc:title>Seven Norms of Collaborative Work</dc:title>
</cp:coreProperties>
</file>